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2.png" ContentType="image/png"/>
  <Override PartName="/ppt/media/image7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14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-212760"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38280" y="457200"/>
          <a:ext cx="691992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457200"/>
                    <a:ext cx="691992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638440"/>
            <a:ext cx="3886200" cy="444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29200" y="342900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971800" y="522360"/>
          <a:ext cx="6119640" cy="153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522360"/>
                    <a:ext cx="61196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173240" y="1598760"/>
          <a:ext cx="8907480" cy="2058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1598760"/>
                    <a:ext cx="89074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914400" y="3444840"/>
            <a:ext cx="4572000" cy="22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960720" y="2286000"/>
          <a:ext cx="6126120" cy="1076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0720" y="2286000"/>
                    <a:ext cx="61261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429000" y="522360"/>
          <a:ext cx="777240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22360"/>
                    <a:ext cx="777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52480" y="2066760"/>
          <a:ext cx="8062920" cy="2048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2066760"/>
                    <a:ext cx="80629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914400" y="2743200"/>
          <a:ext cx="6858000" cy="2449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743200"/>
                    <a:ext cx="68580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171440" y="3476520"/>
            <a:ext cx="4086360" cy="26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915160" y="3657600"/>
            <a:ext cx="2314440" cy="1276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24360" y="522360"/>
          <a:ext cx="6119640" cy="24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522360"/>
                    <a:ext cx="611964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38360" y="2122560"/>
          <a:ext cx="8177040" cy="199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360" y="2122560"/>
                    <a:ext cx="817704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600200" y="4572000"/>
            <a:ext cx="229536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800600" y="4343400"/>
            <a:ext cx="3657600" cy="2486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743200" y="457200"/>
          <a:ext cx="611964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6119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71600" y="2286000"/>
          <a:ext cx="7543800" cy="16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286000"/>
                    <a:ext cx="7543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657600" y="453384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886200" y="457200"/>
          <a:ext cx="611964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"/>
                    <a:ext cx="6119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277164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343400" y="1685880"/>
            <a:ext cx="2889360" cy="242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600200" y="4419720"/>
            <a:ext cx="267660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200560" y="4800600"/>
            <a:ext cx="3257640" cy="1762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86200" y="522360"/>
          <a:ext cx="6119640" cy="107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2236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27000" y="1800360"/>
          <a:ext cx="7086600" cy="231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1800360"/>
                    <a:ext cx="7086600" cy="23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